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6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354C07-EE57-421C-95E0-FA7134F0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851D75-C723-4F25-B516-F5D7EA29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165D11-2619-4AA0-BF65-645F79A6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717C24-86C4-4186-A0FB-0E775B98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E236FB-6619-4FC8-B6D9-233F3F88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111583-AF95-4F17-A9FE-928E9D1B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549A15-58F8-4B0E-96D4-17CAE0BB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32D46C-7C27-43A0-9222-6CD9DAC9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75458E-88E6-4606-826B-7B175AC1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4EB863-3E91-40F3-82B4-EF3768E9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F67EE1-0A2C-4891-AEDE-7A1B2E6E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50E17F-023C-4A99-9AC6-56CB72B9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7BE6AC-D7BE-472B-A174-70DBD92C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52FC0F-1DF0-4656-A189-18B01FB1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1CCCE4-88FA-4286-A538-775D2115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876789-FE56-4084-8320-836445F2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22CAE0-C1AD-42C8-96B6-DAF4E733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CE8451-74D0-40AE-B279-B002B4F6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85F4F9-5E7E-4A43-B139-372F8947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26606A-A36F-4603-A7C7-FC74B20D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EED66A-CFD2-448D-A61E-7EA862BE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CF21C3-866F-4DEF-95E1-DF294D76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804CAC-91B0-4A4C-905D-77497C59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A47E3B-7078-4115-832E-6F579323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E5B470-B6AC-4B03-8A4A-F3966008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396B8F-D3E9-4CBE-B4FA-7016051F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F63B8C-C429-41C1-8503-04AEC02C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4734B7-8CC8-41ED-A962-14087E81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578041-3E9F-475E-9B78-26F74FA0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F1DC2B-0CFF-4C71-ADF5-4014C252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1FE2-DE33-4AC2-B98C-61B740DA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CA2D5B-005B-4E37-9AAD-D8BBB18D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9DB88F-E701-4852-A6CD-39BEC775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A8C25F-EA0F-4C0E-99FB-46CBC037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49E182-45E4-4E38-ADD0-47EFF7FA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4C76D0-AEFD-4600-A5A2-CA3AEBEC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E98C33-3F5D-4E4A-9235-518B6DFF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24A863-F0CA-468E-9D77-6CDEC91E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76D4D8-9284-4654-BCD6-77C8126B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22CC3F-BB4F-429F-ACD0-0ADD0ED2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37B6A6-E7CF-410E-9863-8FDD60F8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E61-2099-475C-A78F-497F7C07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C6DFDE-306D-4411-825B-450B7759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A70A7F-1463-42EC-87EC-A9EDC097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67D438-135D-4B2B-BBC5-B653670F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180F8F-030D-4130-A677-4280DF7F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CBFE74-329F-4B73-B3EE-C554F959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48E48-4171-4ABE-804D-B0349C08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9386CA-C1C0-4D50-A5B8-1FF7720D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3DB651-9945-496A-B10B-B0DBAA3A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0C4BD9-8D64-4726-BE74-B37B5A57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737326-A61D-4CC0-9506-EC962433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470E-EDCB-4357-AF4D-FF82245E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2E4F1B-1207-4211-8B23-AC4D12F6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EE3E9E-9D8A-4C77-8E3A-84A1415D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925BA-0AC4-4C43-B8B5-4C35BDFD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23D26-DE50-4E56-98A5-6096B045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F8A0FC-8BDB-487A-9528-81BF3BA4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36852B-9842-4E31-BFCB-F4CEC4C9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E512F6-1757-4934-A75E-63AC1427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55FBCE-258D-4DFE-B0A6-2AEC335B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DA0BB4-7571-4DA7-8F26-3C2E5DD9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1FAC89-E19D-495E-B231-9A24FD19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3EB5-A5D0-47E6-9101-26E346EE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0AED15-8E52-4A19-8EF1-FBD01D4D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552F3B-B030-49B9-9B99-EF7C492D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9750FF-7DC7-4538-9ADE-953B0085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D6866D-630A-412A-B167-C7521EE4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8A1804-B258-4705-A892-DB7F8C26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167DEE-1E5F-4FA0-BACA-87F21ED2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22749F-E5FE-407E-8974-BB207B56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43849D-C74B-4A0F-90F7-9FC27D0B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F8C536-D28A-4901-AB44-6D45A24E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342C02-C1B0-4FF9-8CB5-8F727057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5C5E-EBFC-4EAD-913D-04915833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CADB37-4F7C-4501-8E2C-9800926C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B5B99B-4F9C-40C4-A77D-5061B3AD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BEEA9E-24B0-4515-A5A8-2FC3EF02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B56E01-18C1-4F28-91B4-EEA8E76A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E07174-0B38-4359-8B33-4678D015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010CA2-77AC-4494-A699-26407B23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538D38-6B2E-434B-935C-934A7E9E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E77618-DB5C-4DF3-9EE0-118534FD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C87E1B-48D4-4E6C-8F4C-7D980946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7B991B-E400-4539-8EED-DAF416A0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DF5-BD29-4CAF-A87E-26A367B2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1AFD73-324B-4FA8-8E40-94A328FF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8F1A75-4998-482A-A7E3-C7EF8094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8D979F-34B8-4E15-A13D-9112B749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8BD155-43F9-4F70-8EA5-5521467B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EDD2F1-3272-4CC4-8E2B-82BBFD29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26EAE5-D140-461C-93EC-A6A5763F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557439-2BC6-432D-94EB-DC8559EF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459545-08EF-43BA-B1F1-BD7C1E79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D2D0F7-C738-4D75-B684-49554CC4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C9691A-84E9-42C1-811A-A1BF0D45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73A-F57A-439C-A624-E638022A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79A71D-2E0A-484F-88A6-F549381D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FDADA8-508A-4136-91BF-BC08F0FB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519923-71FD-4D2B-9B4D-DE675306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92E-6AFC-4DB4-AED4-883AD7DA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2C6F-E0E7-404F-91AA-43ADD726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887-D1BA-426A-BEC9-D3DAD051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DAD6-D4FF-4A36-A6EC-67AE0A72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AB16-E8C8-412E-AC7F-4FE7AC9E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9C48C-E094-43AF-AB27-97C5A4D7BAA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931DE-0F2A-42B0-94FC-979826CB9C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AF8E8-B4E3-4ABB-BAD9-6951F2D34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54CF0-9CCD-4B78-B0AA-8C8241DF525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98FBC-4032-41BA-A713-8042FF37B2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33012-A791-45B9-BCC7-CA69085876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41DDF-D5CF-430B-BC4C-5A0BB735EC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B35FC-BDFC-4200-8703-5948EDDC331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B9E70-2B63-48E3-9B9F-3F9B7D599EF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32AAF-0F0E-430E-ACEA-08557388146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7A604-2494-4BB3-85A3-C51D1A79C44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237F1-6311-4638-93A8-3C6A60B2731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63087-EF26-44D6-8D2B-56FC17B12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B89FE-BE4B-4559-82C0-A08B2D5ACD5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1EC91-FD79-4563-8735-6C0DD3268D8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56F63-D3ED-45E7-93DE-FD037B45DF6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747B7-5C7D-423C-B165-53E9180CCA5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CE360-4E95-48DA-99DB-4D7ABFFAD0B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23553-0EBA-48D6-A334-E4EC8126F88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62A20-7D96-4F89-B0B1-1D60DEB386C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A9C02-985A-41E5-93EF-756A8A29662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C9138-5BA6-4EB2-9D90-0DDB8F4E5DF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C876D-D5BF-4C64-A5A1-49D5CC768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6CAC4-3713-49F6-A6D0-2061EE6F682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C03352-AC61-4D23-B314-91DCF9B7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3D82A5-4F8E-420B-848D-4E6C56CC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8AEAE5-EB87-4772-819E-AEB9DA1B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4E7CC1-151C-4F77-B857-59411CAD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AF9C5F-7E40-4E59-88CC-30AB5E60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BC83C3-C502-49A1-BC0E-D6290101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0EC033-EAC1-4FC4-858A-85BDC34A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EE16CE-2291-471C-90FB-01C9971C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C35386-0237-4EFD-B503-2F3AB9AC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C432A5-2DEF-44E6-ADC0-46690800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0A2FAE-EB1E-43BF-BE1E-4E517DFD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64E715-ACF6-4665-B409-32CA82C9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F2DE3E-8021-4029-8495-AA2A405D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B5C912-07B5-4AE7-A1FB-C33825FD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CB85C0-B8B7-4D55-918D-AB6B6875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864DAE-FE0D-47EF-BC7B-32CECCCF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D236FB-8DB7-4FFE-8E2D-9AA68B14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6425AC-DE13-4D85-8540-155E137D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E529A3-6BC3-45D7-A00C-60A39B41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851790-FC22-48BA-AD19-0AC48CB3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0D1D2B-D678-4D3B-8AE7-4E85E1EA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43FF50-2714-4ED4-B55E-FD161A65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22E8F6-94D3-44DA-B03D-A61F078C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264BA9-B2E9-43C1-A144-7B00FA08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089E5C-CE54-4168-B8F7-F863B2A5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AC98FA-1E50-4AE7-9DE3-9829F40F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11230E-42CD-4BC1-AD23-71F12817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4DD581-46EF-4B37-944C-FCA04020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E91DE3-B339-4B9D-A30E-332D330B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3A75E8-F29B-4579-B0E4-6FDE7C09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EDEF91-C477-422D-BCE8-87957225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99C0AE-22AB-4B9F-9219-13BB58BF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9AC04E-8553-4BEC-98A8-49B8B656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02080E-6BAE-4A40-9EB4-C0C404A0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1755D5-DE12-40C0-AF57-568EC8FD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9A8EBC-F987-43CD-AC4C-DE645140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E5D60B-1927-4894-96AA-090BDBA9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EFD76A-72FA-419F-9441-3214E3EB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F352F1-7F74-44B3-A624-7AAC4307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25.xml"/><Relationship Id="rId16" Type="http://schemas.openxmlformats.org/officeDocument/2006/relationships/slideLayout" Target="../slideLayouts/slideLayout26.xml"/><Relationship Id="rId17" Type="http://schemas.openxmlformats.org/officeDocument/2006/relationships/slideLayout" Target="../slideLayouts/slideLayout27.xml"/><Relationship Id="rId18" Type="http://schemas.openxmlformats.org/officeDocument/2006/relationships/slideLayout" Target="../slideLayouts/slideLayout28.xml"/><Relationship Id="rId19" Type="http://schemas.openxmlformats.org/officeDocument/2006/relationships/slideLayout" Target="../slideLayouts/slideLayout29.xml"/><Relationship Id="rId20" Type="http://schemas.openxmlformats.org/officeDocument/2006/relationships/slideLayout" Target="../slideLayouts/slideLayout30.xml"/><Relationship Id="rId21" Type="http://schemas.openxmlformats.org/officeDocument/2006/relationships/slideLayout" Target="../slideLayouts/slideLayout31.xml"/><Relationship Id="rId22" Type="http://schemas.openxmlformats.org/officeDocument/2006/relationships/slideLayout" Target="../slideLayouts/slideLayout32.xml"/><Relationship Id="rId23" Type="http://schemas.openxmlformats.org/officeDocument/2006/relationships/slideLayout" Target="../slideLayouts/slideLayout33.xml"/><Relationship Id="rId24" Type="http://schemas.openxmlformats.org/officeDocument/2006/relationships/slideLayout" Target="../slideLayouts/slideLayout34.xml"/><Relationship Id="rId25" Type="http://schemas.openxmlformats.org/officeDocument/2006/relationships/slideLayout" Target="../slideLayouts/slideLayout35.xml"/><Relationship Id="rId2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0720" y="43920"/>
            <a:ext cx="7630920" cy="793800"/>
          </a:xfrm>
          <a:prstGeom prst="rect">
            <a:avLst/>
          </a:prstGeom>
          <a:noFill/>
          <a:ln w="0">
            <a:noFill/>
          </a:ln>
        </p:spPr>
        <p:txBody>
          <a:bodyPr lIns="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1080" y="1066320"/>
            <a:ext cx="881064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00000"/>
              </a:buClr>
              <a:buSzPct val="120000"/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0840" indent="-149400">
              <a:buClr>
                <a:srgbClr val="ff9900"/>
              </a:buClr>
              <a:buSzPct val="120000"/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157320">
              <a:buClr>
                <a:srgbClr val="ff99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141480">
              <a:buClr>
                <a:srgbClr val="ff99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611280" indent="-157320">
              <a:buClr>
                <a:srgbClr val="ff9900"/>
              </a:buClr>
              <a:buSzPct val="140000"/>
              <a:buFont typeface="Arial Narrow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611280" indent="-157320">
              <a:buClr>
                <a:srgbClr val="5f5f5f"/>
              </a:buClr>
              <a:buSzPct val="140000"/>
              <a:buFont typeface="Arial Narrow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611280" indent="-157320">
              <a:buClr>
                <a:srgbClr val="5f5f5f"/>
              </a:buClr>
              <a:buSzPct val="140000"/>
              <a:buFont typeface="Arial Narrow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8369280" y="76320"/>
            <a:ext cx="698400" cy="772920"/>
          </a:xfrm>
          <a:prstGeom prst="rect">
            <a:avLst/>
          </a:prstGeom>
          <a:ln w="0">
            <a:noFill/>
          </a:ln>
        </p:spPr>
      </p:pic>
      <p:sp>
        <p:nvSpPr>
          <p:cNvPr id="3" name="Text Box 6"/>
          <p:cNvSpPr/>
          <p:nvPr/>
        </p:nvSpPr>
        <p:spPr>
          <a:xfrm>
            <a:off x="8808120" y="6697800"/>
            <a:ext cx="42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F3BA-D5F2-4190-A64A-81E784AC7515}" type="slidenum">
              <a:rPr b="0" lang="en-US" sz="900" spc="-1" strike="noStrike">
                <a:solidFill>
                  <a:srgbClr val="5f5f5f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01600" indent="-20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549720" indent="-211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845640" indent="-16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184040" indent="-168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18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19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CF2F-7E90-4843-A4CE-B64454E14C2A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ftr" idx="20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01600" indent="-20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549720" indent="-211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845640" indent="-16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184040" indent="-168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1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2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80C8-A9D3-4A06-B2A7-5A615C6B5C1D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23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01600" indent="-20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549720" indent="-211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845640" indent="-16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184040" indent="-168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2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25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26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2AFE-EDC6-4377-85AB-03F3555D8688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01600" indent="-20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549720" indent="-211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845640" indent="-16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184040" indent="-168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sldNum" idx="2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08F2-D5C5-4D17-A0B7-A88FCD26BFBC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2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01600" indent="-20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549720" indent="-211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845640" indent="-16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184040" indent="-168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0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sldNum" idx="3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73B0-0FFB-453D-8736-256AD64C68C1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ftr" idx="32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01600" indent="-20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549720" indent="-211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845640" indent="-16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184040" indent="-168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3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34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3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4DF5-20D6-4E51-BCC3-E271D9792DA0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01600" indent="-20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549720" indent="-211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845640" indent="-16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184040" indent="-168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3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37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3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7F71-776D-4EFC-ABA0-C14F044AD611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01600" indent="-20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549720" indent="-211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845640" indent="-16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184040" indent="-168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9CF0-805A-4537-8E5C-E1CA0554BC2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4B5E-D1B3-46F6-BA6B-EF56625947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32"/>
          <p:cNvGrpSpPr/>
          <p:nvPr/>
        </p:nvGrpSpPr>
        <p:grpSpPr>
          <a:xfrm>
            <a:off x="777960" y="239760"/>
            <a:ext cx="7565760" cy="3714840"/>
            <a:chOff x="777960" y="239760"/>
            <a:chExt cx="7565760" cy="3714840"/>
          </a:xfrm>
        </p:grpSpPr>
        <p:pic>
          <p:nvPicPr>
            <p:cNvPr id="82" name="Picture 33" descr=""/>
            <p:cNvPicPr/>
            <p:nvPr/>
          </p:nvPicPr>
          <p:blipFill>
            <a:blip r:embed="rId2"/>
            <a:stretch/>
          </p:blipFill>
          <p:spPr>
            <a:xfrm>
              <a:off x="2670480" y="1481040"/>
              <a:ext cx="188208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34" descr=""/>
            <p:cNvPicPr/>
            <p:nvPr/>
          </p:nvPicPr>
          <p:blipFill>
            <a:blip r:embed="rId3"/>
            <a:stretch/>
          </p:blipFill>
          <p:spPr>
            <a:xfrm>
              <a:off x="4563360" y="1481040"/>
              <a:ext cx="188208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5" descr=""/>
            <p:cNvPicPr/>
            <p:nvPr/>
          </p:nvPicPr>
          <p:blipFill>
            <a:blip r:embed="rId4"/>
            <a:stretch/>
          </p:blipFill>
          <p:spPr>
            <a:xfrm>
              <a:off x="6461640" y="1481040"/>
              <a:ext cx="188208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36" descr="Untitled-1"/>
            <p:cNvPicPr/>
            <p:nvPr/>
          </p:nvPicPr>
          <p:blipFill>
            <a:blip r:embed="rId5"/>
            <a:stretch/>
          </p:blipFill>
          <p:spPr>
            <a:xfrm>
              <a:off x="4555800" y="239760"/>
              <a:ext cx="18820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37" descr=""/>
            <p:cNvPicPr/>
            <p:nvPr/>
          </p:nvPicPr>
          <p:blipFill>
            <a:blip r:embed="rId6"/>
            <a:stretch/>
          </p:blipFill>
          <p:spPr>
            <a:xfrm>
              <a:off x="6458400" y="239760"/>
              <a:ext cx="188388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38" descr=""/>
            <p:cNvPicPr/>
            <p:nvPr/>
          </p:nvPicPr>
          <p:blipFill>
            <a:blip r:embed="rId7"/>
            <a:stretch/>
          </p:blipFill>
          <p:spPr>
            <a:xfrm>
              <a:off x="777960" y="239760"/>
              <a:ext cx="18820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39" descr=""/>
            <p:cNvPicPr/>
            <p:nvPr/>
          </p:nvPicPr>
          <p:blipFill>
            <a:blip r:embed="rId8"/>
            <a:stretch/>
          </p:blipFill>
          <p:spPr>
            <a:xfrm>
              <a:off x="2668680" y="239760"/>
              <a:ext cx="18820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40" descr=""/>
            <p:cNvPicPr/>
            <p:nvPr/>
          </p:nvPicPr>
          <p:blipFill>
            <a:blip r:embed="rId9"/>
            <a:stretch/>
          </p:blipFill>
          <p:spPr>
            <a:xfrm>
              <a:off x="2668680" y="2716200"/>
              <a:ext cx="1882080" cy="12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41" descr="76529783"/>
            <p:cNvPicPr/>
            <p:nvPr/>
          </p:nvPicPr>
          <p:blipFill>
            <a:blip r:embed="rId10"/>
            <a:stretch/>
          </p:blipFill>
          <p:spPr>
            <a:xfrm>
              <a:off x="4567680" y="2716200"/>
              <a:ext cx="187344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42" descr=""/>
            <p:cNvPicPr/>
            <p:nvPr/>
          </p:nvPicPr>
          <p:blipFill>
            <a:blip r:embed="rId11"/>
            <a:stretch/>
          </p:blipFill>
          <p:spPr>
            <a:xfrm>
              <a:off x="6455880" y="2716200"/>
              <a:ext cx="1882080" cy="12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3" descr=""/>
            <p:cNvPicPr/>
            <p:nvPr/>
          </p:nvPicPr>
          <p:blipFill>
            <a:blip r:embed="rId12"/>
            <a:stretch/>
          </p:blipFill>
          <p:spPr>
            <a:xfrm>
              <a:off x="777960" y="1482840"/>
              <a:ext cx="18820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44" descr=""/>
            <p:cNvPicPr/>
            <p:nvPr/>
          </p:nvPicPr>
          <p:blipFill>
            <a:blip r:embed="rId13"/>
            <a:stretch/>
          </p:blipFill>
          <p:spPr>
            <a:xfrm>
              <a:off x="777960" y="2716200"/>
              <a:ext cx="1882080" cy="123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4"/>
          <p:cNvSpPr/>
          <p:nvPr/>
        </p:nvSpPr>
        <p:spPr>
          <a:xfrm>
            <a:off x="380880" y="95400"/>
            <a:ext cx="8242560" cy="65404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SzPct val="14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5" name="Picture 29" descr=""/>
          <p:cNvPicPr/>
          <p:nvPr/>
        </p:nvPicPr>
        <p:blipFill>
          <a:blip r:embed="rId14"/>
          <a:stretch/>
        </p:blipFill>
        <p:spPr>
          <a:xfrm>
            <a:off x="7439040" y="5281560"/>
            <a:ext cx="960480" cy="1150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720" y="43920"/>
            <a:ext cx="7630920" cy="793800"/>
          </a:xfrm>
          <a:prstGeom prst="rect">
            <a:avLst/>
          </a:prstGeom>
          <a:noFill/>
          <a:ln w="0">
            <a:noFill/>
          </a:ln>
        </p:spPr>
        <p:txBody>
          <a:bodyPr lIns="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81080" y="1066320"/>
            <a:ext cx="881064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00000"/>
              </a:buClr>
              <a:buSzPct val="120000"/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0840" indent="-149400">
              <a:buClr>
                <a:srgbClr val="ff9900"/>
              </a:buClr>
              <a:buSzPct val="120000"/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157320">
              <a:buClr>
                <a:srgbClr val="ff99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141480">
              <a:buClr>
                <a:srgbClr val="ff99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611280" indent="-157320">
              <a:buClr>
                <a:srgbClr val="ff9900"/>
              </a:buClr>
              <a:buSzPct val="140000"/>
              <a:buFont typeface="Arial Narrow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611280" indent="-157320">
              <a:buClr>
                <a:srgbClr val="5f5f5f"/>
              </a:buClr>
              <a:buSzPct val="140000"/>
              <a:buFont typeface="Arial Narrow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611280" indent="-157320">
              <a:buClr>
                <a:srgbClr val="5f5f5f"/>
              </a:buClr>
              <a:buSzPct val="140000"/>
              <a:buFont typeface="Arial Narrow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5"/>
    <p:sldLayoutId id="2147483676" r:id="rId16"/>
    <p:sldLayoutId id="2147483677" r:id="rId17"/>
    <p:sldLayoutId id="2147483678" r:id="rId18"/>
    <p:sldLayoutId id="2147483679" r:id="rId19"/>
    <p:sldLayoutId id="2147483680" r:id="rId20"/>
    <p:sldLayoutId id="2147483681" r:id="rId21"/>
    <p:sldLayoutId id="2147483682" r:id="rId22"/>
    <p:sldLayoutId id="2147483683" r:id="rId23"/>
    <p:sldLayoutId id="2147483684" r:id="rId24"/>
    <p:sldLayoutId id="2147483685" r:id="rId25"/>
    <p:sldLayoutId id="2147483686" r:id="rId2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8369280" y="76320"/>
            <a:ext cx="698400" cy="7729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8808120" y="6697800"/>
            <a:ext cx="42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CEBF-1532-47C6-AF3E-417B6A5F9D74}" type="slidenum">
              <a:rPr b="0" lang="en-US" sz="900" spc="-1" strike="noStrike">
                <a:solidFill>
                  <a:srgbClr val="5f5f5f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0720" y="43920"/>
            <a:ext cx="7630920" cy="793800"/>
          </a:xfrm>
          <a:prstGeom prst="rect">
            <a:avLst/>
          </a:prstGeom>
          <a:noFill/>
          <a:ln w="0">
            <a:noFill/>
          </a:ln>
        </p:spPr>
        <p:txBody>
          <a:bodyPr lIns="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81080" y="1066320"/>
            <a:ext cx="881064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00000"/>
              </a:buClr>
              <a:buSzPct val="120000"/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0840" indent="-149400">
              <a:buClr>
                <a:srgbClr val="ff9900"/>
              </a:buClr>
              <a:buSzPct val="120000"/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157320">
              <a:buClr>
                <a:srgbClr val="ff99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141480">
              <a:buClr>
                <a:srgbClr val="ff99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611280" indent="-157320">
              <a:buClr>
                <a:srgbClr val="ff9900"/>
              </a:buClr>
              <a:buSzPct val="140000"/>
              <a:buFont typeface="Arial Narrow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611280" indent="-157320">
              <a:buClr>
                <a:srgbClr val="5f5f5f"/>
              </a:buClr>
              <a:buSzPct val="140000"/>
              <a:buFont typeface="Arial Narrow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611280" indent="-157320">
              <a:buClr>
                <a:srgbClr val="5f5f5f"/>
              </a:buClr>
              <a:buSzPct val="140000"/>
              <a:buFont typeface="Arial Narrow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4"/>
          </p:nvPr>
        </p:nvSpPr>
        <p:spPr>
          <a:xfrm>
            <a:off x="8626320" y="6608520"/>
            <a:ext cx="333360" cy="1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600" spc="-1" strike="noStrike">
                <a:solidFill>
                  <a:srgbClr val="5f5f5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E042-515D-457E-8529-D98469CC472E}" type="slidenum">
              <a:rPr b="1" lang="en-GB" sz="1600" spc="-1" strike="noStrike">
                <a:solidFill>
                  <a:srgbClr val="5f5f5f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8369280" y="76320"/>
            <a:ext cx="698400" cy="7729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8808120" y="6697800"/>
            <a:ext cx="42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C673-23EE-4696-8B20-A39DDBDE68C7}" type="slidenum">
              <a:rPr b="0" lang="en-US" sz="900" spc="-1" strike="noStrike">
                <a:solidFill>
                  <a:srgbClr val="5f5f5f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0720" y="43920"/>
            <a:ext cx="7630920" cy="793800"/>
          </a:xfrm>
          <a:prstGeom prst="rect">
            <a:avLst/>
          </a:prstGeom>
          <a:noFill/>
          <a:ln w="0">
            <a:noFill/>
          </a:ln>
        </p:spPr>
        <p:txBody>
          <a:bodyPr lIns="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81080" y="1066320"/>
            <a:ext cx="881064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00000"/>
              </a:buClr>
              <a:buSzPct val="120000"/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0840" indent="-149400">
              <a:buClr>
                <a:srgbClr val="ff9900"/>
              </a:buClr>
              <a:buSzPct val="120000"/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157320">
              <a:buClr>
                <a:srgbClr val="ff99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52520" indent="-141480">
              <a:buClr>
                <a:srgbClr val="ff99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611280" indent="-157320">
              <a:buClr>
                <a:srgbClr val="ff9900"/>
              </a:buClr>
              <a:buSzPct val="140000"/>
              <a:buFont typeface="Arial Narrow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611280" indent="-157320">
              <a:buClr>
                <a:srgbClr val="5f5f5f"/>
              </a:buClr>
              <a:buSzPct val="140000"/>
              <a:buFont typeface="Arial Narrow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611280" indent="-157320">
              <a:buClr>
                <a:srgbClr val="5f5f5f"/>
              </a:buClr>
              <a:buSzPct val="140000"/>
              <a:buFont typeface="Arial Narrow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5"/>
          </p:nvPr>
        </p:nvSpPr>
        <p:spPr>
          <a:xfrm>
            <a:off x="8626320" y="6608520"/>
            <a:ext cx="333360" cy="1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600" spc="-1" strike="noStrike">
                <a:solidFill>
                  <a:srgbClr val="5f5f5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46BA-4635-4B0E-BAC9-F61DD46145C1}" type="slidenum">
              <a:rPr b="1" lang="en-GB" sz="1600" spc="-1" strike="noStrike">
                <a:solidFill>
                  <a:srgbClr val="5f5f5f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01600" indent="-20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549720" indent="-211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845640" indent="-16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184040" indent="-168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734E-F25B-4193-9F0E-701745CC1A9C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8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01600" indent="-20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549720" indent="-211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845640" indent="-16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184040" indent="-168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9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10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01A5-8633-4700-8CB8-7DE284DC5C64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11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01600" indent="-20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549720" indent="-211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845640" indent="-16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184040" indent="-168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2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524A-EC91-47BE-A5C5-32C8F744C655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14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01600" indent="-20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549720" indent="-211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845640" indent="-168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184040" indent="-168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5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16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A584-32B3-463C-9D36-A89DB9F7BE77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17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8"/>
          <p:cNvSpPr/>
          <p:nvPr/>
        </p:nvSpPr>
        <p:spPr>
          <a:xfrm>
            <a:off x="146160" y="76500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Georgia"/>
              </a:rPr>
              <a:t>Repozytorium Uniwersytetu Wrocławskiego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68" name="Obraz 5" descr=""/>
          <p:cNvPicPr/>
          <p:nvPr/>
        </p:nvPicPr>
        <p:blipFill>
          <a:blip r:embed="rId1"/>
          <a:stretch/>
        </p:blipFill>
        <p:spPr>
          <a:xfrm>
            <a:off x="2022480" y="5497560"/>
            <a:ext cx="2628720" cy="1143000"/>
          </a:xfrm>
          <a:prstGeom prst="rect">
            <a:avLst/>
          </a:prstGeom>
          <a:ln w="0">
            <a:noFill/>
          </a:ln>
        </p:spPr>
      </p:pic>
      <p:pic>
        <p:nvPicPr>
          <p:cNvPr id="669" name="Obraz 3" descr=""/>
          <p:cNvPicPr/>
          <p:nvPr/>
        </p:nvPicPr>
        <p:blipFill>
          <a:blip r:embed="rId2"/>
          <a:stretch/>
        </p:blipFill>
        <p:spPr>
          <a:xfrm>
            <a:off x="250920" y="5877000"/>
            <a:ext cx="1800000" cy="57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2" descr=""/>
          <p:cNvPicPr/>
          <p:nvPr/>
        </p:nvPicPr>
        <p:blipFill>
          <a:blip r:embed="rId1"/>
          <a:stretch/>
        </p:blipFill>
        <p:spPr>
          <a:xfrm>
            <a:off x="-181080" y="5678640"/>
            <a:ext cx="2633760" cy="1139760"/>
          </a:xfrm>
          <a:prstGeom prst="rect">
            <a:avLst/>
          </a:prstGeom>
          <a:ln w="0">
            <a:noFill/>
          </a:ln>
        </p:spPr>
      </p:pic>
      <p:sp>
        <p:nvSpPr>
          <p:cNvPr id="692" name="pole tekstowe 5"/>
          <p:cNvSpPr/>
          <p:nvPr/>
        </p:nvSpPr>
        <p:spPr>
          <a:xfrm>
            <a:off x="0" y="1628640"/>
            <a:ext cx="87580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900" spc="-1" strike="noStrike" u="sng">
                <a:solidFill>
                  <a:srgbClr val="002060"/>
                </a:solidFill>
                <a:uFillTx/>
                <a:latin typeface="Georgia"/>
              </a:rPr>
              <a:t>Depozytariusz oświadcza, że</a:t>
            </a:r>
            <a:r>
              <a:rPr b="1" i="1" lang="pl-PL" sz="1900" spc="-1" strike="noStrike">
                <a:solidFill>
                  <a:srgbClr val="002060"/>
                </a:solidFill>
                <a:latin typeface="Georgia"/>
              </a:rPr>
              <a:t>:</a:t>
            </a:r>
            <a:endParaRPr b="0" lang="en-US" sz="19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5f5f5f"/>
                </a:solidFill>
                <a:latin typeface="Georgia"/>
              </a:rPr>
              <a:t>Utwór jest wyłącznie jego/ich autorstwa</a:t>
            </a:r>
            <a:endParaRPr b="0" lang="en-US" sz="19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5f5f5f"/>
                </a:solidFill>
                <a:latin typeface="Georgia"/>
              </a:rPr>
              <a:t>Utwór został przygotowany z poszanowaniem praw autorskich</a:t>
            </a:r>
            <a:endParaRPr b="0" lang="en-US" sz="19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5f5f5f"/>
                </a:solidFill>
                <a:latin typeface="Georgia"/>
              </a:rPr>
              <a:t>Przysługują mu prawa do publikacji utworu zgodne z określoną przez niego licencją</a:t>
            </a:r>
            <a:endParaRPr b="0" lang="en-US" sz="19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5f5f5f"/>
                </a:solidFill>
                <a:latin typeface="Georgia"/>
              </a:rPr>
              <a:t>Udziela jednostce UWr  prawa do publikacji utworu w Repozytorium</a:t>
            </a:r>
            <a:endParaRPr b="0" lang="en-US" sz="19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5f5f5f"/>
                </a:solidFill>
                <a:latin typeface="Georgia"/>
              </a:rPr>
              <a:t>Umowa zostaje zawarta na czas nieokreślony z możliwością wypowiedzenia z zachowaniem 12-miesięcznego okresu wypowiedzenia, który upływa na koniec roku kalendarzowego</a:t>
            </a:r>
            <a:endParaRPr b="0" lang="en-US" sz="19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5f5f5f"/>
                </a:solidFill>
                <a:latin typeface="Georgia"/>
              </a:rPr>
              <a:t>Wyraża zgodę na zmianę formatu dokumentu bez zmiany jego treści</a:t>
            </a:r>
            <a:endParaRPr b="0" lang="en-US" sz="19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-181080" y="5589720"/>
            <a:ext cx="2633760" cy="1139760"/>
          </a:xfrm>
          <a:prstGeom prst="rect">
            <a:avLst/>
          </a:prstGeom>
          <a:ln w="0">
            <a:noFill/>
          </a:ln>
        </p:spPr>
      </p:pic>
      <p:sp>
        <p:nvSpPr>
          <p:cNvPr id="694" name="pole tekstowe 5"/>
          <p:cNvSpPr/>
          <p:nvPr/>
        </p:nvSpPr>
        <p:spPr>
          <a:xfrm>
            <a:off x="179280" y="83664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Georgia"/>
              </a:rPr>
              <a:t>UMOWA LICENCYJNA MIĘDZY JEDNOSTKĄ UNIWERSYTETU A WYDAWCĄ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5" name="pole tekstowe 8"/>
          <p:cNvSpPr/>
          <p:nvPr/>
        </p:nvSpPr>
        <p:spPr>
          <a:xfrm>
            <a:off x="324000" y="1844640"/>
            <a:ext cx="84960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5f5f5f"/>
                </a:solidFill>
                <a:latin typeface="Georgia"/>
              </a:rPr>
              <a:t>Jeżeli depozytariusz opublikował daną pracę w polskim wydawnictwie i nie wie, jakie posiada prawa do publikacji utworu lub chce uzyskać prawo do publikacji w Repozytorium, musi zwrócić się w tym celu do Wydawcy. </a:t>
            </a:r>
            <a:endParaRPr b="0" lang="en-US" sz="19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5f5f5f"/>
                </a:solidFill>
                <a:latin typeface="Georgia"/>
              </a:rPr>
              <a:t>Rezultatem powyższych uzgodnień powinna być umowa licencyjna (załącznik nr 2) zawarta pomiędzy Wydawcą a jednostką organizacyjną UWr , której depozytariusz udziela praw do publikacji utworu w Repozytorium.</a:t>
            </a:r>
            <a:endParaRPr b="0" lang="en-US" sz="19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6" name="Prostokąt 1"/>
          <p:cNvSpPr/>
          <p:nvPr/>
        </p:nvSpPr>
        <p:spPr>
          <a:xfrm>
            <a:off x="2872440" y="216000"/>
            <a:ext cx="32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Georgia"/>
              </a:rPr>
              <a:t>ZAŁĄCZNIK NR 2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Symbol zastępczy zawartości 3" descr=""/>
          <p:cNvPicPr/>
          <p:nvPr/>
        </p:nvPicPr>
        <p:blipFill>
          <a:blip r:embed="rId1"/>
          <a:stretch/>
        </p:blipFill>
        <p:spPr>
          <a:xfrm>
            <a:off x="444600" y="901800"/>
            <a:ext cx="7967520" cy="10875960"/>
          </a:xfrm>
          <a:prstGeom prst="rect">
            <a:avLst/>
          </a:prstGeom>
          <a:ln w="0">
            <a:noFill/>
          </a:ln>
        </p:spPr>
      </p:pic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 Black"/>
              </a:rPr>
              <a:t>HTTP://WWW.REPOZYTORIUM.UNI.WROC.PL/DLIBR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 Black"/>
              </a:rPr>
              <a:t>    </a:t>
            </a:r>
            <a:r>
              <a:rPr b="0" lang="pl-PL" sz="1800" spc="-1" strike="noStrike">
                <a:solidFill>
                  <a:srgbClr val="002060"/>
                </a:solidFill>
                <a:latin typeface="Arial Black"/>
              </a:rPr>
              <a:t>HTTP://WWW.BU.UNI.WROC.PL/DLA-KOORDYNATOROW-RUWR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00" name="Symbol zastępczy zawartości 4" descr=""/>
          <p:cNvPicPr/>
          <p:nvPr/>
        </p:nvPicPr>
        <p:blipFill>
          <a:blip r:embed="rId1"/>
          <a:stretch/>
        </p:blipFill>
        <p:spPr>
          <a:xfrm>
            <a:off x="585720" y="1047600"/>
            <a:ext cx="7899480" cy="997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640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2060"/>
                </a:solidFill>
                <a:latin typeface="Georgia"/>
              </a:rPr>
              <a:t>ZESPÓŁ KOORDYNATORÓW RUWR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108000" y="765000"/>
            <a:ext cx="8856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Candara"/>
              </a:rPr>
              <a:t>Sprawy umów/opisów publikacji: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2060"/>
                </a:solidFill>
                <a:latin typeface="Candara"/>
              </a:rPr>
              <a:t>Barbara Piątkowska - Chodasewicz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2060"/>
                </a:solidFill>
                <a:latin typeface="Candara"/>
              </a:rPr>
              <a:t>Magdalena Sołowiej</a:t>
            </a:r>
            <a:r>
              <a:rPr b="0" i="1" lang="pl-PL" sz="2000" spc="-1" strike="noStrike">
                <a:solidFill>
                  <a:srgbClr val="002060"/>
                </a:solidFill>
                <a:latin typeface="Candara"/>
              </a:rPr>
              <a:t>	</a:t>
            </a:r>
            <a:r>
              <a:rPr b="0" i="1" lang="pl-PL" sz="2000" spc="-1" strike="noStrike">
                <a:solidFill>
                  <a:srgbClr val="002060"/>
                </a:solidFill>
                <a:latin typeface="Candara"/>
              </a:rPr>
              <a:t>	</a:t>
            </a:r>
            <a:r>
              <a:rPr b="0" i="1" lang="pl-PL" sz="2000" spc="-1" strike="noStrike">
                <a:solidFill>
                  <a:srgbClr val="002060"/>
                </a:solidFill>
                <a:latin typeface="Candara"/>
              </a:rPr>
              <a:t>	</a:t>
            </a:r>
            <a:r>
              <a:rPr b="0" i="1" lang="pl-PL" sz="2000" spc="-1" strike="noStrike">
                <a:solidFill>
                  <a:srgbClr val="002060"/>
                </a:solidFill>
                <a:latin typeface="Candara"/>
              </a:rPr>
              <a:t>email: repozytorium@bu.uni.wroc.pl,</a:t>
            </a:r>
            <a:r>
              <a:rPr b="0" i="1" lang="pl-PL" sz="2000" spc="-1" strike="noStrike">
                <a:solidFill>
                  <a:srgbClr val="002060"/>
                </a:solidFill>
                <a:latin typeface="Candara"/>
              </a:rPr>
              <a:t> Dorota Stańczak </a:t>
            </a:r>
            <a:r>
              <a:rPr b="0" i="1" lang="pl-PL" sz="2000" spc="-1" strike="noStrike">
                <a:solidFill>
                  <a:srgbClr val="002060"/>
                </a:solidFill>
                <a:latin typeface="Candara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i="1" lang="pl-PL" sz="2000" spc="-1" strike="noStrike">
                <a:solidFill>
                  <a:srgbClr val="002060"/>
                </a:solidFill>
                <a:latin typeface="Candara"/>
              </a:rPr>
              <a:t>tel. 71 34  63  131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Candara"/>
              </a:rPr>
              <a:t>____________________________________________________________________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Candara"/>
              </a:rPr>
              <a:t>	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Candara"/>
              </a:rPr>
              <a:t>Sprawy techniczne: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2060"/>
                </a:solidFill>
                <a:latin typeface="Candara"/>
              </a:rPr>
              <a:t>Tomasz Kalota, </a:t>
            </a:r>
            <a:r>
              <a:rPr b="0" i="1" lang="pl-PL" sz="2000" spc="-1" strike="noStrike">
                <a:solidFill>
                  <a:srgbClr val="002060"/>
                </a:solidFill>
                <a:latin typeface="Candara"/>
              </a:rPr>
              <a:t>	</a:t>
            </a:r>
            <a:r>
              <a:rPr b="0" i="1" lang="pl-PL" sz="2000" spc="-1" strike="noStrike">
                <a:solidFill>
                  <a:srgbClr val="002060"/>
                </a:solidFill>
                <a:latin typeface="Candara"/>
              </a:rPr>
              <a:t>	</a:t>
            </a:r>
            <a:r>
              <a:rPr b="0" i="1" lang="pl-PL" sz="2000" spc="-1" strike="noStrike">
                <a:solidFill>
                  <a:srgbClr val="002060"/>
                </a:solidFill>
                <a:latin typeface="Candara"/>
              </a:rPr>
              <a:t>email: tomasz.kalota@bu.uni.wroc.pl, tel. 71 37  52  426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2060"/>
                </a:solidFill>
                <a:latin typeface="Candara"/>
              </a:rPr>
              <a:t>Rafał Raczyński, </a:t>
            </a:r>
            <a:r>
              <a:rPr b="0" i="1" lang="pl-PL" sz="2000" spc="-1" strike="noStrike">
                <a:solidFill>
                  <a:srgbClr val="002060"/>
                </a:solidFill>
                <a:latin typeface="Candara"/>
              </a:rPr>
              <a:t>	</a:t>
            </a:r>
            <a:r>
              <a:rPr b="0" i="1" lang="pl-PL" sz="2000" spc="-1" strike="noStrike">
                <a:solidFill>
                  <a:srgbClr val="002060"/>
                </a:solidFill>
                <a:latin typeface="Candara"/>
              </a:rPr>
              <a:t>	</a:t>
            </a:r>
            <a:r>
              <a:rPr b="0" i="1" lang="pl-PL" sz="2000" spc="-1" strike="noStrike">
                <a:solidFill>
                  <a:srgbClr val="002060"/>
                </a:solidFill>
                <a:latin typeface="Candara"/>
              </a:rPr>
              <a:t>email: rafal.raczynski@bu.uni.wroc.pl tel. 71 34  63  185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3" name="Nawias klamrowy zamykający 3"/>
          <p:cNvSpPr/>
          <p:nvPr/>
        </p:nvSpPr>
        <p:spPr>
          <a:xfrm>
            <a:off x="3708360" y="1989000"/>
            <a:ext cx="647640" cy="1584360"/>
          </a:xfrm>
          <a:custGeom>
            <a:avLst/>
            <a:gdLst>
              <a:gd name="textAreaLeft" fmla="*/ 0 w 647640"/>
              <a:gd name="textAreaRight" fmla="*/ 234000 w 647640"/>
              <a:gd name="textAreaTop" fmla="*/ 16560 h 1584360"/>
              <a:gd name="textAreaBottom" fmla="*/ 156780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8"/>
                  <a:pt x="10800" y="736"/>
                </a:cubicBezTo>
                <a:lnTo>
                  <a:pt x="10800" y="10064"/>
                </a:lnTo>
                <a:cubicBezTo>
                  <a:pt x="10800" y="10432"/>
                  <a:pt x="16200" y="10800"/>
                  <a:pt x="21600" y="10800"/>
                </a:cubicBezTo>
                <a:cubicBezTo>
                  <a:pt x="16200" y="10800"/>
                  <a:pt x="10800" y="11168"/>
                  <a:pt x="10800" y="11536"/>
                </a:cubicBezTo>
                <a:lnTo>
                  <a:pt x="10800" y="20864"/>
                </a:lnTo>
                <a:cubicBezTo>
                  <a:pt x="10800" y="21232"/>
                  <a:pt x="5400" y="21600"/>
                  <a:pt x="0" y="21600"/>
                </a:cubicBezTo>
              </a:path>
            </a:pathLst>
          </a:custGeom>
          <a:noFill/>
          <a:ln cap="rnd" w="9360">
            <a:solidFill>
              <a:srgbClr val="7c9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94920" y="1406520"/>
            <a:ext cx="7921800" cy="3246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i="1" lang="pl-PL" sz="4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i="1" lang="pl-PL" sz="4400" spc="-1" strike="noStrike">
                <a:solidFill>
                  <a:srgbClr val="ffffff"/>
                </a:solidFill>
                <a:latin typeface="Georgia"/>
              </a:rPr>
              <a:t>DZIĘKUJEMY ZA UWAGĘ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05" name="Picture 3" descr=""/>
          <p:cNvPicPr/>
          <p:nvPr/>
        </p:nvPicPr>
        <p:blipFill>
          <a:blip r:embed="rId1"/>
          <a:stretch/>
        </p:blipFill>
        <p:spPr>
          <a:xfrm>
            <a:off x="-396720" y="5661000"/>
            <a:ext cx="2633400" cy="113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36000" cy="1916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Georgia"/>
              </a:rPr>
              <a:t>KORZYŚCI DLA PRACOWNIKÓW NAUKOWYCH ZWIĄZANE Z ZAMIESZCZANIEM PRAC W REPOZYTORIUM </a:t>
            </a:r>
            <a:br>
              <a:rPr sz="1100"/>
            </a:br>
            <a:br>
              <a:rPr sz="11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79280" y="1341360"/>
            <a:ext cx="885672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0" i="1" lang="pl-PL" sz="1600" spc="-1" strike="noStrike">
                <a:solidFill>
                  <a:srgbClr val="ffffff"/>
                </a:solidFill>
                <a:latin typeface="Georgia"/>
              </a:rPr>
              <a:t>zwiększenie ,,widoczności" dorobku naukowego - prace umieszczane w repozytorium  UWr będą  indeksowane przez światowe wyszukiwarki naukowe  np. </a:t>
            </a:r>
            <a:r>
              <a:rPr b="0" i="1" lang="pl-PL" sz="1600" spc="-1" strike="noStrike" u="sng">
                <a:solidFill>
                  <a:srgbClr val="ffffff"/>
                </a:solidFill>
                <a:uFillTx/>
                <a:latin typeface="Georgia"/>
              </a:rPr>
              <a:t>Google Scholar (</a:t>
            </a:r>
            <a:r>
              <a:rPr b="0" i="1" lang="pl-PL" sz="1600" spc="-1" strike="noStrike">
                <a:solidFill>
                  <a:srgbClr val="ffffff"/>
                </a:solidFill>
                <a:latin typeface="Georgia"/>
              </a:rPr>
              <a:t> przy zastosowaniu narzędzia Publish or Perish);   co spowoduje  </a:t>
            </a:r>
            <a:r>
              <a:rPr b="0" i="1" lang="pl-PL" sz="1600" spc="-1" strike="noStrike" u="sng">
                <a:solidFill>
                  <a:srgbClr val="ffffff"/>
                </a:solidFill>
                <a:uFillTx/>
                <a:latin typeface="Georgia"/>
              </a:rPr>
              <a:t>wzrost cytowalności prac  </a:t>
            </a:r>
            <a:r>
              <a:rPr b="0" i="1" lang="pl-PL" sz="1600" spc="-1" strike="noStrike">
                <a:solidFill>
                  <a:srgbClr val="ffffff"/>
                </a:solidFill>
                <a:latin typeface="Georgia"/>
              </a:rPr>
              <a:t>(według badań, cytowalność tych prac wzrasta od 36% do 250% – w zależności od dziedziny)</a:t>
            </a:r>
            <a:endParaRPr b="0" i="1" lang="en-US" sz="16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0" i="1" lang="pl-PL" sz="1600" spc="-1" strike="noStrike">
                <a:solidFill>
                  <a:srgbClr val="ffffff"/>
                </a:solidFill>
                <a:latin typeface="Georgia"/>
              </a:rPr>
              <a:t>możliwość przechowywania dokumentów w różnych formatach,</a:t>
            </a:r>
            <a:endParaRPr b="0" i="1" lang="en-US" sz="16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0" i="1" lang="pl-PL" sz="1600" spc="-1" strike="noStrike">
                <a:solidFill>
                  <a:srgbClr val="ffffff"/>
                </a:solidFill>
                <a:latin typeface="Georgia"/>
              </a:rPr>
              <a:t>skrócenie czasu przeznaczonego na zaprezentowanie wyników badań – w oczekiwaniu na publikację w komercyjnym czasopiśmie autor archiwizuje pracę w repozytorium, upowszechniając od razu jej wyniki,</a:t>
            </a:r>
            <a:endParaRPr b="0" i="1" lang="en-US" sz="16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0" i="1" lang="pl-PL" sz="1600" spc="-1" strike="noStrike">
                <a:solidFill>
                  <a:srgbClr val="ffffff"/>
                </a:solidFill>
                <a:latin typeface="Georgia"/>
              </a:rPr>
              <a:t>możliwość utworzenia cyfrowego CV – prezentacja własnego dorobku z dostępem do pełnych tekstów; pomoc w procesie składania podań o granty badawcze,</a:t>
            </a:r>
            <a:endParaRPr b="0" i="1" lang="en-US" sz="16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pl-PL" sz="1600" spc="-1" strike="noStrike">
                <a:solidFill>
                  <a:srgbClr val="ffffff"/>
                </a:solidFill>
                <a:latin typeface="Georgia"/>
              </a:rPr>
              <a:t>-  dostęp do dokumentów z założenia jest otwarty dla wszystkich zainteresowanych, </a:t>
            </a:r>
            <a:endParaRPr b="0" i="1" lang="en-US" sz="16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0" i="1" lang="pl-PL" sz="1600" spc="-1" strike="noStrike">
                <a:solidFill>
                  <a:srgbClr val="ffffff"/>
                </a:solidFill>
                <a:latin typeface="Georgia"/>
              </a:rPr>
              <a:t>możliwość zapoznawania się ze statystykami dotyczącymi zdeponowanych prac.</a:t>
            </a:r>
            <a:br>
              <a:rPr sz="1600"/>
            </a:br>
            <a:endParaRPr b="0" i="1" lang="en-US" sz="16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672" name="Picture 2" descr=""/>
          <p:cNvPicPr/>
          <p:nvPr/>
        </p:nvPicPr>
        <p:blipFill>
          <a:blip r:embed="rId1"/>
          <a:stretch/>
        </p:blipFill>
        <p:spPr>
          <a:xfrm>
            <a:off x="-324000" y="5853240"/>
            <a:ext cx="2633760" cy="113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569080" cy="1441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Georgia"/>
              </a:rPr>
              <a:t>KORZYŚCI DLA UCZELNI ZWIĄZANE Z ZAMIESZCZANIEM PRAC W REPOZYTORIU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178920" y="1773360"/>
            <a:ext cx="8713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wzrost prestiżu uczelni jako skutek wzrostu widoczności badań naukowych, prowadzonych na wydziałach – „UWr trzeci wśród uniwersytetów wg rankingu "Polityki”.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promowanie i wzrost potencjału kadry naukowej, 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wspieranie edukacji studentów poprzez ułatwienie im dostępu do materiałów dydaktycznych, 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pomoc w realizacji zadań administracyjnych, np. prowadzenia sprawozdawczości czy ewaluacji pracowników naukowych.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-324000" y="5589720"/>
            <a:ext cx="2633760" cy="113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532720" cy="2252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002060"/>
                </a:solidFill>
                <a:latin typeface="Georgia"/>
              </a:rPr>
              <a:t>POROZUMIENI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68000" y="2637000"/>
            <a:ext cx="828036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2060"/>
                </a:solidFill>
                <a:latin typeface="Georgia"/>
              </a:rPr>
              <a:t>Aby rozpocząć współpracę z Repozytorium musi być podpisane porozumienie pomiędzy Biblioteką Uniwersytecką a 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2060"/>
                </a:solidFill>
                <a:latin typeface="Georgia"/>
              </a:rPr>
              <a:t>Wydziałem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2060"/>
                </a:solidFill>
                <a:latin typeface="Georgia"/>
              </a:rPr>
              <a:t>inną jednostką ogólnouczelnianą np. Muzeum, Archiwum, Centrum Willy’ego Brandta…itp.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-181080" y="5661000"/>
            <a:ext cx="2633760" cy="113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85672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2060"/>
                </a:solidFill>
                <a:latin typeface="Georgia"/>
              </a:rPr>
              <a:t>BIBLIOTEKA UNIWERSYTECKA</a:t>
            </a:r>
            <a:br>
              <a:rPr sz="3200"/>
            </a:br>
            <a:r>
              <a:rPr b="1" lang="pl-PL" sz="3200" spc="-1" strike="noStrike">
                <a:solidFill>
                  <a:srgbClr val="002060"/>
                </a:solidFill>
                <a:latin typeface="Georgia"/>
              </a:rPr>
              <a:t>ZOBOWIĄZUJE SIĘ:</a:t>
            </a:r>
            <a:br>
              <a:rPr sz="3200"/>
            </a:br>
            <a:br>
              <a:rPr sz="3200"/>
            </a:br>
            <a:r>
              <a:rPr b="0" lang="pl-PL" sz="1800" spc="-1" strike="noStrike">
                <a:solidFill>
                  <a:srgbClr val="ffffff"/>
                </a:solidFill>
                <a:latin typeface="Georgia"/>
              </a:rPr>
              <a:t>- SPRAWOWAĆ NADZÓR NAD RUWR:</a:t>
            </a:r>
            <a:br>
              <a:rPr sz="3200"/>
            </a:br>
            <a:br>
              <a:rPr sz="3200"/>
            </a:b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A) BEZPIECZNIE  PRZECHOWYWAĆ I  ARCHIWIZOWAĆ  MATERIAŁY NA WŁASNYM SERWERZE,</a:t>
            </a:r>
            <a:br>
              <a:rPr sz="1600"/>
            </a:b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Georgia"/>
              </a:rPr>
              <a:t>B) UDOSTĘPNIAĆ DANE ZGODNIE Z ZASADAMI OKREŚLANYMI PRZEZ DEPOZYTARIUSZA,</a:t>
            </a:r>
            <a:br>
              <a:rPr sz="1800"/>
            </a:br>
            <a:br>
              <a:rPr sz="1800"/>
            </a:br>
            <a:r>
              <a:rPr b="0" lang="pl-PL" sz="2000" spc="-1" strike="noStrike">
                <a:solidFill>
                  <a:srgbClr val="ffffff"/>
                </a:solidFill>
                <a:latin typeface="Georgia"/>
              </a:rPr>
              <a:t>- KOORDYNOWAĆ FUNKCJONOWANIE  RUWR NA POZIOMIE UCZELNI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Georgia"/>
              </a:rPr>
              <a:t>- SZKOLIĆ KOORDYNATORÓW NA  POZIOMIE WYDZIAŁU/INSTYTUTU.</a:t>
            </a:r>
            <a:br>
              <a:rPr sz="3200"/>
            </a:br>
            <a:r>
              <a:rPr b="0" lang="pl-PL" sz="3200" spc="-1" strike="noStrike">
                <a:solidFill>
                  <a:srgbClr val="3f3f3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6944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2060"/>
                </a:solidFill>
                <a:latin typeface="Georgia"/>
              </a:rPr>
              <a:t>JEDNOSTKA ORGANIZACYJNA ZOBOWIĄZUJE SIĘ DO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8226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Georgia"/>
              </a:rPr>
              <a:t>wyznaczenia koordynatora/ów,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Georgia"/>
              </a:rPr>
              <a:t>zawierania umowy licencyjnej z depozytariuszem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Georgia"/>
              </a:rPr>
              <a:t>-    przekazywania podpisanych umów licencyjnych do     koordynatorów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682" name="Picture 2" descr=""/>
          <p:cNvPicPr/>
          <p:nvPr/>
        </p:nvPicPr>
        <p:blipFill>
          <a:blip r:embed="rId1"/>
          <a:stretch/>
        </p:blipFill>
        <p:spPr>
          <a:xfrm>
            <a:off x="-252360" y="5589720"/>
            <a:ext cx="2633760" cy="113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2060"/>
                </a:solidFill>
                <a:latin typeface="Georgia"/>
              </a:rPr>
              <a:t>DO ZADAŃ KOORDYNATORA NALEŻY: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50920" y="765000"/>
            <a:ext cx="8642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- udział w szkoleniach,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- nadzór nad podpisywaniem umów licencyjnych pomiędzy autorem a jednostką,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- wspomaganie depozytariusza   w zamieszczaniu  materiałów w RUWr: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pomoc w założeniu konta,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ewentualna pomoc w wypełnianiu pól w formularzu,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pomoc w określaniu praw autorskich  (Sherpa Romeo, załącznik nr 2)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uzupełnianie opisu o brakujące dane bibliograficzne w dLibrze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- ostateczne zatwierdzenie materiału do zdeponowania,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- kontakt z Biblioteką Uniwersytecką.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685" name="Picture 3" descr=""/>
          <p:cNvPicPr/>
          <p:nvPr/>
        </p:nvPicPr>
        <p:blipFill>
          <a:blip r:embed="rId1"/>
          <a:stretch/>
        </p:blipFill>
        <p:spPr>
          <a:xfrm>
            <a:off x="-324000" y="5718240"/>
            <a:ext cx="2633760" cy="113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2060"/>
                </a:solidFill>
                <a:latin typeface="Georgia"/>
              </a:rPr>
              <a:t>DO ZADAŃ DEPOZYTARIUSZA NALEŻY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87" name="Picture 2" descr=""/>
          <p:cNvPicPr/>
          <p:nvPr/>
        </p:nvPicPr>
        <p:blipFill>
          <a:blip r:embed="rId1"/>
          <a:stretch/>
        </p:blipFill>
        <p:spPr>
          <a:xfrm>
            <a:off x="-181080" y="5877000"/>
            <a:ext cx="2633760" cy="113976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78920" y="907920"/>
            <a:ext cx="849636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sprawdzenie praw autorskich, 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kontakt z wydawcą i ustalenie zasad publikacji w RUWr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(Sherpa Romeo </a:t>
            </a:r>
            <a:r>
              <a:rPr b="0" i="1" lang="pl-PL" sz="2000" spc="-1" strike="noStrike">
                <a:solidFill>
                  <a:srgbClr val="ffffff"/>
                </a:solidFill>
                <a:latin typeface="Georgia"/>
              </a:rPr>
              <a:t>(„Dla autorów i depozytariuszy RUWr”), </a:t>
            </a: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kontakt z wydawcą  </a:t>
            </a:r>
            <a:r>
              <a:rPr b="0" i="1" lang="pl-PL" sz="2000" spc="-1" strike="noStrike">
                <a:solidFill>
                  <a:srgbClr val="ffffff"/>
                </a:solidFill>
                <a:latin typeface="Georgia"/>
              </a:rPr>
              <a:t>(załącznik nr 2),  </a:t>
            </a: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kontakt z bezpośrednim przełożonym np. Dyrektorem Instytutu),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- podpisanie umowy licencyjnej z władzami jednostki organizacyjnej,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-   samodzielne (lub z pomocą koordynatora) wprowadzanie danych do formularza,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-  korekta ewentualnych błędów zgodnie z zaleceniem koordynatora,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-   udzielenie dodatkowych informacji na temat danej publikacji .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903600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Georgia"/>
              </a:rPr>
              <a:t>ZAŁĄCZNIK  NR 1</a:t>
            </a:r>
            <a:br>
              <a:rPr sz="2800"/>
            </a:br>
            <a:r>
              <a:rPr b="1" lang="pl-PL" sz="2800" spc="-1" strike="noStrike">
                <a:solidFill>
                  <a:srgbClr val="002060"/>
                </a:solidFill>
                <a:latin typeface="Georgia"/>
              </a:rPr>
              <a:t>UMOWA LICENCYJNA MIĘDZY JEDNOSTKĄ UNIWERSYTETU A DEPOZYTARIUSZEM</a:t>
            </a:r>
            <a:br>
              <a:rPr sz="66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08000" y="1700280"/>
            <a:ext cx="9036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-propozycją przygotowaną zgodnie z literą prawa,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-od jednostki zależy, jaką ostatecznie postać i formę przyjmie umowa i na niej spoczywa odpowiedzialność za zawarcie umowy i nadzorowanie jej realizacji: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- umowa może dotyczyć więcej niż jednego utworu,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-może mieć charakter mniej restrykcyjny bądź nieformalny (mniej szczegółowe dane osobowe w przypadku wybranych depozytariuszy),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- umowa może mieć wyłącznie postać elektroniczną, np. w postaci przechowywanych maili, skanów,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ffff"/>
                </a:solidFill>
                <a:latin typeface="Georgia"/>
              </a:rPr>
              <a:t>-umowa może ograniczać się do podpisania przez depozytariusza regulaminu korzystania z Repozytorium, jeśli jednostka organizacyjna uzna taką postać umowy za najwłaściwszą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4:48:17Z</dcterms:created>
  <dc:creator>Jan Reichelt</dc:creator>
  <dc:description/>
  <dc:language>en-US</dc:language>
  <cp:lastModifiedBy>I. Indeka</cp:lastModifiedBy>
  <cp:lastPrinted>2014-06-10T12:19:02Z</cp:lastPrinted>
  <dcterms:modified xsi:type="dcterms:W3CDTF">2014-06-11T13:50:29Z</dcterms:modified>
  <cp:revision>990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Undo10Write">
    <vt:lpwstr>396|394|392|390|378|376|374|372|371|363|355|349|337|333|332|324|322|299|298|285|282|280|270|269|267|264|262|257|255|253|251|248|247|236|230|228|221|217|215|204|200|198|185|174|172|169|167|157|155|153|151|149|142|141|129|127|125|122|118|117|113|111|110|105</vt:lpwstr>
  </property>
</Properties>
</file>